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D4C-AE3D-48D9-8E36-8FA20DA15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8115-900F-45AE-A3A4-E8A13F35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8CA-C229-4557-8133-763372DD9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CBFC-8226-4C31-AF38-4D53845B9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12C7C-8E43-4C48-815A-E2FBDEB5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55E47-8F73-474D-972B-2E52243C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7376B-CBB2-4AB5-9B3B-CC9A4E19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93713-C03B-4535-BEDA-68479092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A26069-73EF-4887-B56C-DABFFC30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AF5A8-48BD-45A1-B568-D7FA0DB8B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975BA-EE53-468A-A522-5C1DF34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C660-BF11-404F-B001-BDE746DD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EE441-E203-4497-9D83-2EB610A1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7B34A-940C-4DFD-B6E9-8982C9E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31711-9057-4CE4-995A-079C312B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5E11A-8414-451D-868F-9456C17D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B2895-2F7A-49E5-AA63-D1C07EDF9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64C6-AA5E-4768-A267-B7F041A5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280E-2904-4F74-B254-110ED150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87AC-0C37-4221-90D7-8D548209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BCAD-C9B6-424A-8ACC-F72F4AB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E77-F4FF-457F-B031-5D29B27B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2A7-6B89-484B-9297-00815D18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941A-5ECA-4937-800B-E82743C1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B1A2-EC42-4CCB-9094-F44918EBC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93A0-8E53-4188-9639-3E9060EB4A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Program%20Files/Microsoft%20Visual%20Studio%20.NET%202003/Vc7/PlatformSDK/samples/winui/Shell/Fakemenu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FP 9.0 Windows Event Handl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ke Stew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 Corpo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Message Que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message gets sent for *everything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ndled by the window’s window proced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ts of messages get sent – written in Fox code, it would bring an app to its kne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y++ is good for examining messages coming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y++ is also handy for checking window hand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Message Que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Do 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iWinMsg = WM_QU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-- Do something to end ap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iWinMsg = WM_RMOUSEBUTT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-- Do something when R m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Case iWinMsg = WM_P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*-- Repa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{...}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Lots more Case state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EndC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indows Message Queu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C++ examp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fakemenu.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w BINDEVENTS() Function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EVENT(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hW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nMessag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oEventHandle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cDelegat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Wnd – Window hand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Message – message to inter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EventHandler – object to handle the event/mess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Delegate – method to run when message comes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EVENTS(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ss 1 as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m to get Windows ev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?AEVENTS(laEvents,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lication switching (no sample avail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ndows Themes ch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wer management notif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ive insertion and remov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ok into IDE window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eate custom Report Builder right-click men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vea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 careful overloading common events with VFP code. WM_MOUSEMOVE should be used with cau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(if not all) IDE windows have child windows that may get the message instead of the window you thou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events may require registration (media change, for examp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8:13:47Z</dcterms:created>
  <dc:creator>Mike Stewart</dc:creator>
  <dc:description/>
  <dc:language>en-US</dc:language>
  <cp:lastModifiedBy>Mike Stewart</cp:lastModifiedBy>
  <dcterms:modified xsi:type="dcterms:W3CDTF">2004-08-10T22:54:17Z</dcterms:modified>
  <cp:revision>5</cp:revision>
  <dc:subject/>
  <dc:title>VFP 9.0 Windows Event Handling</dc:title>
</cp:coreProperties>
</file>